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ЛЦИЈУМ, ПАРАТИРЕОИДНИ ХОРМОН И ВИТАМИН Д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 ЗА ПОРЕМЕЋАЈ МЕТАБОЛИЗМА КОСТИЈУ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8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оралну примену калцијума највише се користе препарати калцијум-карбо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лцијум-глуконат и калцијум-хлорид – за парентералну (интавенску)при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е соли калцијума садрже различите количине калцијумових јона (због различите молекуларне тежине), па дозу увек треба рачунати према количини калцијумових јона коју ће пацијент прим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парати калц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г калцијум хлорида садржи 100 мг (6,7 ммол) елементарног калцију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г калцијум глуцептата садржи 90-100 мг (2,2-2,5 ммол) елементарног калцију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г калцијум глуконата садржи 90-100 мг (2,2-2,5 ммол) елементарног калцију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дикације за примену препарата калц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стој срца (електромеханичка дисоцијациј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кал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магнезиј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фосфат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окалц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илакса остеопорозе</a:t>
            </a: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оксикација верапами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траиндикације за примену калц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рчане аритм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ацијенти који примају високе дозе кардиотоника и који су под ризиком од кардиотоксичности (ЕКГ проме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ркоидоза (јер може доћи до хиперкалцемиј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калцемија и хиперкалциур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ехидратација (због настанка хиперкалцемиј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паратиреоидизам или тровање витамином 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себан опрез код пацијената са инсуфицијенцијом бубрега, јер код њих лако долази до хиперкалцемије. (код њих је контраиндикована је примена калцијум фосфата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жељена дејства препарата калц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 парентерални препарати калцијума оштећују зид вене кроз коју се примењују; зато их увек треба приме­њивати кроз велику в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брзо давање препарата калцијума интравенски изазива вазодилатацију са хипотензијом, мучнину, аритмије на срцу или чак застој срца (не краће од 20 минута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и и знаци хиперкалцемије: замор, слабост, бол у трбуху, повраћање, опстипација, полиурија, полидипсија, калкулоза бубрега, калцификација рожњаче, депресија, конфузија, скраћен Q-Т интервал и, на крају, застој ср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фролитијаза код продужене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"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сти, камење, грчи се и стење!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жена примена алкалних соли калцијума може довести до "милк-алкали" синдрома (хиперкалцемија, алкал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теопор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ља губитак коштане масе - матрикса кости и минералних материја заје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авља се у старости, код жена после менопаузе и после дуготрајне примене кортикостеро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азива болове у костима и повећава ризик од фрак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рофилакса остеопороз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чна мишљења када је у питању унос калцијума за профилаксу остеопороз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Поједини аутор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поручују унос од 1 г елементарног калцију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теопороза се не може спречити једино применом калциј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докнада витамина Д, примена естрогена, бифосфан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чење остеопороз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цитонин - инхибира активност остеокл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рогени (нпр. 25 г етинил-естрадиола днев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фосфонати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тидронат, памидронат, алендронат, ибандронат, золендрон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осума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ипар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трогени у третману остеопор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еопороза у постменопаузи се може успешно лечити и применом естрогена (нпр. 25 г етинил-естрадиола дневно) током неколико година. Да би се смањио ризик од карцинома ендометријума, истовремено се примењује и неки гестаген (нпр. 2.5 мг медроксипрогестерона днев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фосфон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налози пирофосфата који уместо кисеоника имају угљеников атом: -Р-С-Р- уместо -Р-О-Р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епонују се у костима, стабилизују хидроксиапатит и спречавају ресорпцију к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цеси синтезе надвладавају процесе ресорпције и долази до побољшања остеопороз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врло су ефикасни у лечењу и превенцији остеопорозе уз врло мало нежељених дејста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ако се предозирају, могу довести до деминерализације костију и испадања зубних импланта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изиолошка улога калц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раћелијски секундарни гласни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говоран з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е ексцитације и контракције у нервном и мишићном тки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ходан за ослобађање неуротрансмитера  из пресинаптичких нервних завршета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екрецију и ендокриних и егзокриних жљез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контракцију - да би актин и миозин у мишићним ћелијама могли да ступе у интера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требно је да калцијум отклони инхибиторно дејство тропонин-тропомиозинског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цијум у екстаћелијском простор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улатор надражљивости ћелијских мембрана ексцитабилних тк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Јонизовани калцијум у серуму је активни облик калцијума који и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ну улогу у коагулацији кр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парати бифосфан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 терапији остеопорозе примењују се орално или парентерално: Алендронат, Етидронат, Памидронат, Ибандронат, Золендрона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олендронат - у спречавању патолошких фрактура код коштаних метастаза, нпр. после карцинома простате, као и у лечењу хиперкалцемије код узнапредовалих карцино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ко се предозирају, могу довести до деминерализације костију и испадања зубних импланта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бифосфан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од оралне примене бифосфонати делују иритабилно на слузокожу једњака, па се морају узимати са доста воде и пацијент треба да остане у усправном положају најмање 1 сат после гутања табле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да се бифосфонати дају парентерално (нпр. памидронат, золендронат или ибандронат), показују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фротоксич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дејство код 5-10% болесника. Нефротоксични ефекат се делимично може избећи ако је пацијент добро хидрир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ови лекови у терапији остеопорозе</a:t>
            </a:r>
            <a:br>
              <a:rPr sz="3200"/>
            </a:b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Деносумаб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Моноклонско антитело против фактора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NKL </a:t>
            </a: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(лиганд рецептора активатора нуклеарног фактора капа Б), које неутрализацијом поменутог фактора доводи до смањене активности остеоклас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Примењује се поткожно, једном на 6 месец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Ефикаснији је од бифосфоната у лечењу остеопорозе код жена у постменопауз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Лек се одлично подноси, али је примећено да код мањег броја пацијената расте ризик од инфекција коже и поткожног ткива, а може се јавити и остеонекроза вилиц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Arial"/>
              </a:rPr>
              <a:t>Терипарат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Активни фрагмент (1-34) паратхормона, који директно стимулише активност остеобласта у костима, а индиректно повећава апсорпцију калцијума у цревима, и реапсорпцију калцијума и излучивање фосфата у тубулима бубрег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Примењује се поткожно једном дневно и једини је лек који може не само да заустави остеопорозу, него и да повећа густину к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Arial"/>
              </a:rPr>
              <a:t>Од нежељених дејстава лек изазива болове у екстремитетима, анемију, депресију и хипотензиј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алцијум и коштано тки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лцијум и фосфати су неопходни за нормалну изградњу и раст коштаног тки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сти су и депо калцијума и резервоар електролита и пуф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ко 30% орално унетог калцијума се апсорбује у танком црев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новни регулатор апсорпције је 1,25-дихидрокси -холекалциферол (активни облик вит. Д) и паратиреоидни хорм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упна концентрација калцијума у крви је око 2,5 мМ/л а фосфата око 1 мМ/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тхормон (хормон паратиреоидне жлезд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ећава активност остеокласта, тј. повећава ресорпцију кости и олакшава претварање витамина Д у активни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лик у бубре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већава реапсорпцију калцијума а спречава реапсорпцију фосфата у тубулима бубрег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ајњи ефекат дејства ПТХ је пораст концентрације калцијума у крви и пад концентрације фосф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калц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веома честа код генерализованих малигних боле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имарно с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дражава на функционисање ЦНС-а. Прво настаје конфузија а затим сомнолентност, сопор и ко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 ЕКГ-у је скраћен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-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 интервал. Хиперкалцемију првенствено лечимо применом диуретика Хенлеове петље заједно са инфузијама физиолошког раствора (0.9% НаЦл 4 Л/24 часа + 125 мг фуросемида и.в.). Такође, може се применити калцитонин, хормон Ц-ћелија тиреоидеје, који инхибира активност остеокласта (доза: 8 ИЈ/кг/8 часова и.м.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покалц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 ниво калцијума у крви доводи до појаве грчева попречно-пругасте мускулатуре (тетаниј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 ЕКГ-у се може видети продужење QТ интервал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жа хипокалцемија се лечи спором интравенском применом (дуже од 20) калцијум-глуконата (10 мл 10% раствора) или хлори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 друге стране, хронична надокнада калцијума се врши оралном применом калцијум-карбоната (1-2 г дневно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ји у два облика: холекалциферол (витамин Д3) и ергокалциферол (витамин Д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калциферол и ергокалциферол се прво у јетри хидроксилишу на позицији 25, а затим у бубрегу на позицији 1 и настаје 1,25-дихидрокси деривати који су активни облици витамин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Д у свом активном облику (1,25-дихидрокси-холекалциферол) повећава апсорпцију калцијума и фосфата у цревима и њихову реапсорпцију у тубулима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ед недостатка витамина Д долази до дефектне минерализације костију која се код деце манифестује рахитисом а код одраслих остеомалац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лактичка доза витамина Д се обавезно даје деци у прве две године живота - 400 ИЈ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евна доза витамина Д је знатно већа за лечење рахитиса и остеомалациј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тамин Д у бубрежној слабости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 реналне остеодистроф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току хроничне инсуфицијенције бубрега онемогућена је 1-хидроксилација 25-ОХ-деривата витамина Д, па долази до дефицита активног облика витамина и дефектне минерализације костију - тзв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реналне остеодистро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лечење се користи калцитриол (1,25-(ОХ)2-витамин Д) или 1-калцидиол (синтетски аналог витамина Д који је хидроксилиран на позицији 1, па после додатне 25-хидроксилације у јетри постаје акти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ипервитаминоза Д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ипо- и хиперпаратиреоидиз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се предозира, витамин Д делује токсично (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хипервитаминоза 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- хиперкалцемиј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Хипопаратир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е најчешће јавља после хируршког одстрањења тиреоидне жљезде - хипокалцемија која се лечи применом препарата калцијума и витамина Д (50.000 ИЈ витамина Д, 3 пута недељно + 1г СаСО3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Хиперпаратиреоидиза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ечи хируршким путем - одстрањењем тумора или хиперплазије паратиреоиде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09T19:44:04Z</dcterms:modified>
  <cp:revision>8</cp:revision>
  <dc:subject/>
  <dc:title>Slide 1</dc:title>
</cp:coreProperties>
</file>